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182C-CE63-4CD6-84A3-C82C50F7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1227-E5C2-4DF5-88D2-6B3FC409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CBF4-3323-470D-96FB-AA42E029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D248-8C3E-4D79-AEB3-7C2223BD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D92E-44B4-4D63-8E9E-163C2649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D60A-65B1-4265-961D-B111DA11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C126-E475-44A1-89A5-CF9FBFA1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F8CF-8694-4DFA-BBAA-D85C3C72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CD63-02BD-401A-B4F4-279E5A25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607E-5E7F-4F83-A65A-6BA7D33C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CDB8-333C-4DB0-A13D-4CAD3D4C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8E20-098B-4BD7-AD40-7D02D9FA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4CBE-6E09-4C8E-8F87-EEDEDE999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8305920" cy="6172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457200"/>
            <a:ext cx="701064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Zastosowani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ystemów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kstertowyc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BS02064_" descr=""/>
          <p:cNvPicPr/>
          <p:nvPr/>
        </p:nvPicPr>
        <p:blipFill>
          <a:blip r:embed="rId1"/>
          <a:stretch/>
        </p:blipFill>
        <p:spPr>
          <a:xfrm>
            <a:off x="6019920" y="4114800"/>
            <a:ext cx="1720800" cy="1712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8120" y="652140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oper BlkItHd BT"/>
              </a:rPr>
              <a:t>Katarzyna Burniewicz, BOISI, G1, Rok I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42840" y="457200"/>
            <a:ext cx="279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ooper BlkItHd BT"/>
              </a:rPr>
              <a:t>TRANAI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8288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Pakowanie materiałów radioaktywnych.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ały powinny być jak najekonomiczniej zapakowane, a jednocześnie spełniać warunki bezpieczeństw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581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odciążył załogę od planowania, co było wyjątko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powiedzialnym zadaniem, gdyż błąd mógł spowodowa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żenie środowisk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59920" y="4800600"/>
            <a:ext cx="48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niósł efektywność pakowania;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55627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dał prestiżu firmie, jako posługującej się najnowszą technologią.</a:t>
            </a:r>
            <a:r>
              <a:rPr b="0" lang="en-US" sz="2400" spc="-1" strike="noStrike">
                <a:solidFill>
                  <a:srgbClr val="000000"/>
                </a:solidFill>
                <a:latin typeface="Cooper BlkItHd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828800"/>
            <a:ext cx="8001000" cy="1295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08960" y="50760"/>
            <a:ext cx="803160" cy="1351080"/>
          </a:xfrm>
          <a:custGeom>
            <a:avLst/>
            <a:gdLst/>
            <a:ahLst/>
            <a:rect l="l" t="t" r="r" b="b"/>
            <a:pathLst>
              <a:path w="1519" h="2551">
                <a:moveTo>
                  <a:pt x="399" y="780"/>
                </a:moveTo>
                <a:lnTo>
                  <a:pt x="404" y="781"/>
                </a:lnTo>
                <a:lnTo>
                  <a:pt x="408" y="783"/>
                </a:lnTo>
                <a:lnTo>
                  <a:pt x="411" y="784"/>
                </a:lnTo>
                <a:lnTo>
                  <a:pt x="416" y="786"/>
                </a:lnTo>
                <a:lnTo>
                  <a:pt x="471" y="605"/>
                </a:lnTo>
                <a:lnTo>
                  <a:pt x="447" y="597"/>
                </a:lnTo>
                <a:lnTo>
                  <a:pt x="422" y="588"/>
                </a:lnTo>
                <a:lnTo>
                  <a:pt x="399" y="581"/>
                </a:lnTo>
                <a:lnTo>
                  <a:pt x="377" y="573"/>
                </a:lnTo>
                <a:lnTo>
                  <a:pt x="359" y="567"/>
                </a:lnTo>
                <a:lnTo>
                  <a:pt x="344" y="563"/>
                </a:lnTo>
                <a:lnTo>
                  <a:pt x="335" y="560"/>
                </a:lnTo>
                <a:lnTo>
                  <a:pt x="332" y="558"/>
                </a:lnTo>
                <a:lnTo>
                  <a:pt x="380" y="499"/>
                </a:lnTo>
                <a:lnTo>
                  <a:pt x="423" y="442"/>
                </a:lnTo>
                <a:lnTo>
                  <a:pt x="462" y="389"/>
                </a:lnTo>
                <a:lnTo>
                  <a:pt x="500" y="341"/>
                </a:lnTo>
                <a:lnTo>
                  <a:pt x="533" y="297"/>
                </a:lnTo>
                <a:lnTo>
                  <a:pt x="563" y="256"/>
                </a:lnTo>
                <a:lnTo>
                  <a:pt x="589" y="219"/>
                </a:lnTo>
                <a:lnTo>
                  <a:pt x="612" y="186"/>
                </a:lnTo>
                <a:lnTo>
                  <a:pt x="633" y="156"/>
                </a:lnTo>
                <a:lnTo>
                  <a:pt x="649" y="130"/>
                </a:lnTo>
                <a:lnTo>
                  <a:pt x="664" y="109"/>
                </a:lnTo>
                <a:lnTo>
                  <a:pt x="676" y="92"/>
                </a:lnTo>
                <a:lnTo>
                  <a:pt x="685" y="78"/>
                </a:lnTo>
                <a:lnTo>
                  <a:pt x="691" y="68"/>
                </a:lnTo>
                <a:lnTo>
                  <a:pt x="694" y="62"/>
                </a:lnTo>
                <a:lnTo>
                  <a:pt x="696" y="60"/>
                </a:lnTo>
                <a:lnTo>
                  <a:pt x="750" y="35"/>
                </a:lnTo>
                <a:lnTo>
                  <a:pt x="808" y="17"/>
                </a:lnTo>
                <a:lnTo>
                  <a:pt x="871" y="6"/>
                </a:lnTo>
                <a:lnTo>
                  <a:pt x="937" y="0"/>
                </a:lnTo>
                <a:lnTo>
                  <a:pt x="1005" y="0"/>
                </a:lnTo>
                <a:lnTo>
                  <a:pt x="1074" y="5"/>
                </a:lnTo>
                <a:lnTo>
                  <a:pt x="1142" y="12"/>
                </a:lnTo>
                <a:lnTo>
                  <a:pt x="1207" y="23"/>
                </a:lnTo>
                <a:lnTo>
                  <a:pt x="1270" y="35"/>
                </a:lnTo>
                <a:lnTo>
                  <a:pt x="1329" y="47"/>
                </a:lnTo>
                <a:lnTo>
                  <a:pt x="1381" y="60"/>
                </a:lnTo>
                <a:lnTo>
                  <a:pt x="1427" y="74"/>
                </a:lnTo>
                <a:lnTo>
                  <a:pt x="1466" y="84"/>
                </a:lnTo>
                <a:lnTo>
                  <a:pt x="1495" y="93"/>
                </a:lnTo>
                <a:lnTo>
                  <a:pt x="1513" y="101"/>
                </a:lnTo>
                <a:lnTo>
                  <a:pt x="1519" y="102"/>
                </a:lnTo>
                <a:lnTo>
                  <a:pt x="654" y="2551"/>
                </a:lnTo>
                <a:lnTo>
                  <a:pt x="1" y="2349"/>
                </a:lnTo>
                <a:lnTo>
                  <a:pt x="0" y="2147"/>
                </a:lnTo>
                <a:lnTo>
                  <a:pt x="224" y="1417"/>
                </a:lnTo>
                <a:lnTo>
                  <a:pt x="220" y="1417"/>
                </a:lnTo>
                <a:lnTo>
                  <a:pt x="215" y="1416"/>
                </a:lnTo>
                <a:lnTo>
                  <a:pt x="209" y="1414"/>
                </a:lnTo>
                <a:lnTo>
                  <a:pt x="205" y="1413"/>
                </a:lnTo>
                <a:lnTo>
                  <a:pt x="174" y="1396"/>
                </a:lnTo>
                <a:lnTo>
                  <a:pt x="150" y="1369"/>
                </a:lnTo>
                <a:lnTo>
                  <a:pt x="132" y="1330"/>
                </a:lnTo>
                <a:lnTo>
                  <a:pt x="120" y="1286"/>
                </a:lnTo>
                <a:lnTo>
                  <a:pt x="114" y="1232"/>
                </a:lnTo>
                <a:lnTo>
                  <a:pt x="115" y="1173"/>
                </a:lnTo>
                <a:lnTo>
                  <a:pt x="124" y="1111"/>
                </a:lnTo>
                <a:lnTo>
                  <a:pt x="141" y="1046"/>
                </a:lnTo>
                <a:lnTo>
                  <a:pt x="151" y="1015"/>
                </a:lnTo>
                <a:lnTo>
                  <a:pt x="163" y="983"/>
                </a:lnTo>
                <a:lnTo>
                  <a:pt x="177" y="953"/>
                </a:lnTo>
                <a:lnTo>
                  <a:pt x="192" y="926"/>
                </a:lnTo>
                <a:lnTo>
                  <a:pt x="206" y="901"/>
                </a:lnTo>
                <a:lnTo>
                  <a:pt x="223" y="877"/>
                </a:lnTo>
                <a:lnTo>
                  <a:pt x="239" y="856"/>
                </a:lnTo>
                <a:lnTo>
                  <a:pt x="257" y="837"/>
                </a:lnTo>
                <a:lnTo>
                  <a:pt x="275" y="820"/>
                </a:lnTo>
                <a:lnTo>
                  <a:pt x="293" y="805"/>
                </a:lnTo>
                <a:lnTo>
                  <a:pt x="311" y="793"/>
                </a:lnTo>
                <a:lnTo>
                  <a:pt x="329" y="784"/>
                </a:lnTo>
                <a:lnTo>
                  <a:pt x="347" y="778"/>
                </a:lnTo>
                <a:lnTo>
                  <a:pt x="365" y="775"/>
                </a:lnTo>
                <a:lnTo>
                  <a:pt x="383" y="777"/>
                </a:lnTo>
                <a:lnTo>
                  <a:pt x="399" y="7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91560" y="66600"/>
            <a:ext cx="919080" cy="1381320"/>
          </a:xfrm>
          <a:custGeom>
            <a:avLst/>
            <a:gdLst/>
            <a:ahLst/>
            <a:rect l="l" t="t" r="r" b="b"/>
            <a:pathLst>
              <a:path w="1738" h="2610">
                <a:moveTo>
                  <a:pt x="775" y="0"/>
                </a:moveTo>
                <a:lnTo>
                  <a:pt x="935" y="29"/>
                </a:lnTo>
                <a:lnTo>
                  <a:pt x="1075" y="62"/>
                </a:lnTo>
                <a:lnTo>
                  <a:pt x="1200" y="97"/>
                </a:lnTo>
                <a:lnTo>
                  <a:pt x="1306" y="138"/>
                </a:lnTo>
                <a:lnTo>
                  <a:pt x="1399" y="178"/>
                </a:lnTo>
                <a:lnTo>
                  <a:pt x="1476" y="220"/>
                </a:lnTo>
                <a:lnTo>
                  <a:pt x="1542" y="262"/>
                </a:lnTo>
                <a:lnTo>
                  <a:pt x="1596" y="302"/>
                </a:lnTo>
                <a:lnTo>
                  <a:pt x="1638" y="343"/>
                </a:lnTo>
                <a:lnTo>
                  <a:pt x="1671" y="380"/>
                </a:lnTo>
                <a:lnTo>
                  <a:pt x="1696" y="413"/>
                </a:lnTo>
                <a:lnTo>
                  <a:pt x="1714" y="443"/>
                </a:lnTo>
                <a:lnTo>
                  <a:pt x="1726" y="467"/>
                </a:lnTo>
                <a:lnTo>
                  <a:pt x="1734" y="485"/>
                </a:lnTo>
                <a:lnTo>
                  <a:pt x="1737" y="497"/>
                </a:lnTo>
                <a:lnTo>
                  <a:pt x="1738" y="501"/>
                </a:lnTo>
                <a:lnTo>
                  <a:pt x="1297" y="801"/>
                </a:lnTo>
                <a:lnTo>
                  <a:pt x="1258" y="1076"/>
                </a:lnTo>
                <a:lnTo>
                  <a:pt x="1150" y="1236"/>
                </a:lnTo>
                <a:lnTo>
                  <a:pt x="1152" y="1241"/>
                </a:lnTo>
                <a:lnTo>
                  <a:pt x="1156" y="1254"/>
                </a:lnTo>
                <a:lnTo>
                  <a:pt x="1164" y="1281"/>
                </a:lnTo>
                <a:lnTo>
                  <a:pt x="1176" y="1321"/>
                </a:lnTo>
                <a:lnTo>
                  <a:pt x="1194" y="1378"/>
                </a:lnTo>
                <a:lnTo>
                  <a:pt x="1216" y="1453"/>
                </a:lnTo>
                <a:lnTo>
                  <a:pt x="1246" y="1549"/>
                </a:lnTo>
                <a:lnTo>
                  <a:pt x="1282" y="1669"/>
                </a:lnTo>
                <a:lnTo>
                  <a:pt x="1071" y="1721"/>
                </a:lnTo>
                <a:lnTo>
                  <a:pt x="912" y="2194"/>
                </a:lnTo>
                <a:lnTo>
                  <a:pt x="612" y="2216"/>
                </a:lnTo>
                <a:lnTo>
                  <a:pt x="511" y="2559"/>
                </a:lnTo>
                <a:lnTo>
                  <a:pt x="0" y="2610"/>
                </a:lnTo>
                <a:lnTo>
                  <a:pt x="77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19920" y="376200"/>
            <a:ext cx="862200" cy="469800"/>
          </a:xfrm>
          <a:custGeom>
            <a:avLst/>
            <a:gdLst/>
            <a:ahLst/>
            <a:rect l="l" t="t" r="r" b="b"/>
            <a:pathLst>
              <a:path w="1629" h="886">
                <a:moveTo>
                  <a:pt x="1535" y="395"/>
                </a:moveTo>
                <a:lnTo>
                  <a:pt x="1544" y="392"/>
                </a:lnTo>
                <a:lnTo>
                  <a:pt x="1150" y="213"/>
                </a:lnTo>
                <a:lnTo>
                  <a:pt x="1153" y="219"/>
                </a:lnTo>
                <a:lnTo>
                  <a:pt x="1128" y="214"/>
                </a:lnTo>
                <a:lnTo>
                  <a:pt x="1101" y="213"/>
                </a:lnTo>
                <a:lnTo>
                  <a:pt x="1074" y="214"/>
                </a:lnTo>
                <a:lnTo>
                  <a:pt x="1047" y="220"/>
                </a:lnTo>
                <a:lnTo>
                  <a:pt x="1020" y="229"/>
                </a:lnTo>
                <a:lnTo>
                  <a:pt x="995" y="241"/>
                </a:lnTo>
                <a:lnTo>
                  <a:pt x="968" y="256"/>
                </a:lnTo>
                <a:lnTo>
                  <a:pt x="944" y="274"/>
                </a:lnTo>
                <a:lnTo>
                  <a:pt x="55" y="0"/>
                </a:lnTo>
                <a:lnTo>
                  <a:pt x="0" y="181"/>
                </a:lnTo>
                <a:lnTo>
                  <a:pt x="832" y="439"/>
                </a:lnTo>
                <a:lnTo>
                  <a:pt x="818" y="488"/>
                </a:lnTo>
                <a:lnTo>
                  <a:pt x="811" y="537"/>
                </a:lnTo>
                <a:lnTo>
                  <a:pt x="812" y="585"/>
                </a:lnTo>
                <a:lnTo>
                  <a:pt x="821" y="630"/>
                </a:lnTo>
                <a:lnTo>
                  <a:pt x="836" y="672"/>
                </a:lnTo>
                <a:lnTo>
                  <a:pt x="859" y="708"/>
                </a:lnTo>
                <a:lnTo>
                  <a:pt x="887" y="738"/>
                </a:lnTo>
                <a:lnTo>
                  <a:pt x="922" y="760"/>
                </a:lnTo>
                <a:lnTo>
                  <a:pt x="938" y="768"/>
                </a:lnTo>
                <a:lnTo>
                  <a:pt x="955" y="772"/>
                </a:lnTo>
                <a:lnTo>
                  <a:pt x="972" y="777"/>
                </a:lnTo>
                <a:lnTo>
                  <a:pt x="990" y="778"/>
                </a:lnTo>
                <a:lnTo>
                  <a:pt x="1008" y="780"/>
                </a:lnTo>
                <a:lnTo>
                  <a:pt x="1026" y="778"/>
                </a:lnTo>
                <a:lnTo>
                  <a:pt x="1044" y="775"/>
                </a:lnTo>
                <a:lnTo>
                  <a:pt x="1062" y="771"/>
                </a:lnTo>
                <a:lnTo>
                  <a:pt x="1080" y="765"/>
                </a:lnTo>
                <a:lnTo>
                  <a:pt x="1098" y="757"/>
                </a:lnTo>
                <a:lnTo>
                  <a:pt x="1115" y="748"/>
                </a:lnTo>
                <a:lnTo>
                  <a:pt x="1133" y="739"/>
                </a:lnTo>
                <a:lnTo>
                  <a:pt x="1149" y="727"/>
                </a:lnTo>
                <a:lnTo>
                  <a:pt x="1165" y="714"/>
                </a:lnTo>
                <a:lnTo>
                  <a:pt x="1180" y="700"/>
                </a:lnTo>
                <a:lnTo>
                  <a:pt x="1195" y="686"/>
                </a:lnTo>
                <a:lnTo>
                  <a:pt x="1195" y="687"/>
                </a:lnTo>
                <a:lnTo>
                  <a:pt x="1195" y="689"/>
                </a:lnTo>
                <a:lnTo>
                  <a:pt x="1195" y="692"/>
                </a:lnTo>
                <a:lnTo>
                  <a:pt x="1195" y="693"/>
                </a:lnTo>
                <a:lnTo>
                  <a:pt x="1203" y="683"/>
                </a:lnTo>
                <a:lnTo>
                  <a:pt x="1213" y="672"/>
                </a:lnTo>
                <a:lnTo>
                  <a:pt x="1224" y="660"/>
                </a:lnTo>
                <a:lnTo>
                  <a:pt x="1236" y="651"/>
                </a:lnTo>
                <a:lnTo>
                  <a:pt x="1249" y="645"/>
                </a:lnTo>
                <a:lnTo>
                  <a:pt x="1261" y="642"/>
                </a:lnTo>
                <a:lnTo>
                  <a:pt x="1273" y="644"/>
                </a:lnTo>
                <a:lnTo>
                  <a:pt x="1285" y="651"/>
                </a:lnTo>
                <a:lnTo>
                  <a:pt x="1357" y="886"/>
                </a:lnTo>
                <a:lnTo>
                  <a:pt x="1390" y="885"/>
                </a:lnTo>
                <a:lnTo>
                  <a:pt x="1423" y="877"/>
                </a:lnTo>
                <a:lnTo>
                  <a:pt x="1457" y="865"/>
                </a:lnTo>
                <a:lnTo>
                  <a:pt x="1489" y="846"/>
                </a:lnTo>
                <a:lnTo>
                  <a:pt x="1520" y="822"/>
                </a:lnTo>
                <a:lnTo>
                  <a:pt x="1548" y="793"/>
                </a:lnTo>
                <a:lnTo>
                  <a:pt x="1572" y="759"/>
                </a:lnTo>
                <a:lnTo>
                  <a:pt x="1595" y="721"/>
                </a:lnTo>
                <a:lnTo>
                  <a:pt x="1614" y="672"/>
                </a:lnTo>
                <a:lnTo>
                  <a:pt x="1626" y="624"/>
                </a:lnTo>
                <a:lnTo>
                  <a:pt x="1629" y="576"/>
                </a:lnTo>
                <a:lnTo>
                  <a:pt x="1626" y="530"/>
                </a:lnTo>
                <a:lnTo>
                  <a:pt x="1614" y="488"/>
                </a:lnTo>
                <a:lnTo>
                  <a:pt x="1595" y="451"/>
                </a:lnTo>
                <a:lnTo>
                  <a:pt x="1568" y="419"/>
                </a:lnTo>
                <a:lnTo>
                  <a:pt x="1535" y="3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08960" y="1293840"/>
            <a:ext cx="777960" cy="306360"/>
          </a:xfrm>
          <a:custGeom>
            <a:avLst/>
            <a:gdLst/>
            <a:ahLst/>
            <a:rect l="l" t="t" r="r" b="b"/>
            <a:pathLst>
              <a:path w="1468" h="578">
                <a:moveTo>
                  <a:pt x="0" y="0"/>
                </a:moveTo>
                <a:lnTo>
                  <a:pt x="0" y="578"/>
                </a:lnTo>
                <a:lnTo>
                  <a:pt x="1468" y="578"/>
                </a:lnTo>
                <a:lnTo>
                  <a:pt x="1043" y="24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458200" y="835200"/>
            <a:ext cx="685800" cy="765000"/>
          </a:xfrm>
          <a:custGeom>
            <a:avLst/>
            <a:gdLst/>
            <a:ahLst/>
            <a:rect l="l" t="t" r="r" b="b"/>
            <a:pathLst>
              <a:path w="1296" h="1445">
                <a:moveTo>
                  <a:pt x="1140" y="0"/>
                </a:moveTo>
                <a:lnTo>
                  <a:pt x="1013" y="540"/>
                </a:lnTo>
                <a:lnTo>
                  <a:pt x="886" y="0"/>
                </a:lnTo>
                <a:lnTo>
                  <a:pt x="897" y="555"/>
                </a:lnTo>
                <a:lnTo>
                  <a:pt x="639" y="62"/>
                </a:lnTo>
                <a:lnTo>
                  <a:pt x="787" y="598"/>
                </a:lnTo>
                <a:lnTo>
                  <a:pt x="415" y="185"/>
                </a:lnTo>
                <a:lnTo>
                  <a:pt x="693" y="667"/>
                </a:lnTo>
                <a:lnTo>
                  <a:pt x="231" y="360"/>
                </a:lnTo>
                <a:lnTo>
                  <a:pt x="618" y="757"/>
                </a:lnTo>
                <a:lnTo>
                  <a:pt x="95" y="576"/>
                </a:lnTo>
                <a:lnTo>
                  <a:pt x="569" y="863"/>
                </a:lnTo>
                <a:lnTo>
                  <a:pt x="15" y="818"/>
                </a:lnTo>
                <a:lnTo>
                  <a:pt x="546" y="978"/>
                </a:lnTo>
                <a:lnTo>
                  <a:pt x="0" y="1072"/>
                </a:lnTo>
                <a:lnTo>
                  <a:pt x="554" y="1095"/>
                </a:lnTo>
                <a:lnTo>
                  <a:pt x="48" y="1322"/>
                </a:lnTo>
                <a:lnTo>
                  <a:pt x="590" y="1207"/>
                </a:lnTo>
                <a:lnTo>
                  <a:pt x="289" y="1445"/>
                </a:lnTo>
                <a:lnTo>
                  <a:pt x="371" y="1445"/>
                </a:lnTo>
                <a:lnTo>
                  <a:pt x="653" y="1306"/>
                </a:lnTo>
                <a:lnTo>
                  <a:pt x="548" y="1445"/>
                </a:lnTo>
                <a:lnTo>
                  <a:pt x="840" y="1445"/>
                </a:lnTo>
                <a:lnTo>
                  <a:pt x="841" y="1442"/>
                </a:lnTo>
                <a:lnTo>
                  <a:pt x="841" y="1445"/>
                </a:lnTo>
                <a:lnTo>
                  <a:pt x="1187" y="1445"/>
                </a:lnTo>
                <a:lnTo>
                  <a:pt x="1185" y="1442"/>
                </a:lnTo>
                <a:lnTo>
                  <a:pt x="1188" y="1445"/>
                </a:lnTo>
                <a:lnTo>
                  <a:pt x="1296" y="1445"/>
                </a:lnTo>
                <a:lnTo>
                  <a:pt x="1296" y="1405"/>
                </a:lnTo>
                <a:lnTo>
                  <a:pt x="1289" y="1387"/>
                </a:lnTo>
                <a:lnTo>
                  <a:pt x="1296" y="1393"/>
                </a:lnTo>
                <a:lnTo>
                  <a:pt x="1296" y="236"/>
                </a:lnTo>
                <a:lnTo>
                  <a:pt x="1130" y="555"/>
                </a:lnTo>
                <a:lnTo>
                  <a:pt x="114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750160" y="1163520"/>
            <a:ext cx="393840" cy="436680"/>
          </a:xfrm>
          <a:custGeom>
            <a:avLst/>
            <a:gdLst/>
            <a:ahLst/>
            <a:rect l="l" t="t" r="r" b="b"/>
            <a:pathLst>
              <a:path w="745" h="826">
                <a:moveTo>
                  <a:pt x="745" y="723"/>
                </a:moveTo>
                <a:lnTo>
                  <a:pt x="745" y="705"/>
                </a:lnTo>
                <a:lnTo>
                  <a:pt x="625" y="573"/>
                </a:lnTo>
                <a:lnTo>
                  <a:pt x="745" y="620"/>
                </a:lnTo>
                <a:lnTo>
                  <a:pt x="745" y="590"/>
                </a:lnTo>
                <a:lnTo>
                  <a:pt x="649" y="527"/>
                </a:lnTo>
                <a:lnTo>
                  <a:pt x="745" y="539"/>
                </a:lnTo>
                <a:lnTo>
                  <a:pt x="745" y="504"/>
                </a:lnTo>
                <a:lnTo>
                  <a:pt x="661" y="476"/>
                </a:lnTo>
                <a:lnTo>
                  <a:pt x="745" y="464"/>
                </a:lnTo>
                <a:lnTo>
                  <a:pt x="745" y="429"/>
                </a:lnTo>
                <a:lnTo>
                  <a:pt x="660" y="423"/>
                </a:lnTo>
                <a:lnTo>
                  <a:pt x="745" y="389"/>
                </a:lnTo>
                <a:lnTo>
                  <a:pt x="745" y="355"/>
                </a:lnTo>
                <a:lnTo>
                  <a:pt x="645" y="373"/>
                </a:lnTo>
                <a:lnTo>
                  <a:pt x="745" y="299"/>
                </a:lnTo>
                <a:lnTo>
                  <a:pt x="745" y="269"/>
                </a:lnTo>
                <a:lnTo>
                  <a:pt x="619" y="328"/>
                </a:lnTo>
                <a:lnTo>
                  <a:pt x="745" y="172"/>
                </a:lnTo>
                <a:lnTo>
                  <a:pt x="745" y="159"/>
                </a:lnTo>
                <a:lnTo>
                  <a:pt x="582" y="290"/>
                </a:lnTo>
                <a:lnTo>
                  <a:pt x="685" y="64"/>
                </a:lnTo>
                <a:lnTo>
                  <a:pt x="537" y="263"/>
                </a:lnTo>
                <a:lnTo>
                  <a:pt x="580" y="18"/>
                </a:lnTo>
                <a:lnTo>
                  <a:pt x="486" y="248"/>
                </a:lnTo>
                <a:lnTo>
                  <a:pt x="468" y="0"/>
                </a:lnTo>
                <a:lnTo>
                  <a:pt x="434" y="247"/>
                </a:lnTo>
                <a:lnTo>
                  <a:pt x="355" y="11"/>
                </a:lnTo>
                <a:lnTo>
                  <a:pt x="383" y="259"/>
                </a:lnTo>
                <a:lnTo>
                  <a:pt x="247" y="49"/>
                </a:lnTo>
                <a:lnTo>
                  <a:pt x="335" y="281"/>
                </a:lnTo>
                <a:lnTo>
                  <a:pt x="153" y="114"/>
                </a:lnTo>
                <a:lnTo>
                  <a:pt x="296" y="317"/>
                </a:lnTo>
                <a:lnTo>
                  <a:pt x="76" y="199"/>
                </a:lnTo>
                <a:lnTo>
                  <a:pt x="266" y="361"/>
                </a:lnTo>
                <a:lnTo>
                  <a:pt x="25" y="301"/>
                </a:lnTo>
                <a:lnTo>
                  <a:pt x="248" y="410"/>
                </a:lnTo>
                <a:lnTo>
                  <a:pt x="0" y="412"/>
                </a:lnTo>
                <a:lnTo>
                  <a:pt x="244" y="462"/>
                </a:lnTo>
                <a:lnTo>
                  <a:pt x="3" y="525"/>
                </a:lnTo>
                <a:lnTo>
                  <a:pt x="251" y="513"/>
                </a:lnTo>
                <a:lnTo>
                  <a:pt x="34" y="636"/>
                </a:lnTo>
                <a:lnTo>
                  <a:pt x="272" y="563"/>
                </a:lnTo>
                <a:lnTo>
                  <a:pt x="93" y="735"/>
                </a:lnTo>
                <a:lnTo>
                  <a:pt x="305" y="603"/>
                </a:lnTo>
                <a:lnTo>
                  <a:pt x="173" y="816"/>
                </a:lnTo>
                <a:lnTo>
                  <a:pt x="346" y="636"/>
                </a:lnTo>
                <a:lnTo>
                  <a:pt x="286" y="826"/>
                </a:lnTo>
                <a:lnTo>
                  <a:pt x="298" y="826"/>
                </a:lnTo>
                <a:lnTo>
                  <a:pt x="393" y="657"/>
                </a:lnTo>
                <a:lnTo>
                  <a:pt x="384" y="826"/>
                </a:lnTo>
                <a:lnTo>
                  <a:pt x="402" y="826"/>
                </a:lnTo>
                <a:lnTo>
                  <a:pt x="446" y="664"/>
                </a:lnTo>
                <a:lnTo>
                  <a:pt x="479" y="826"/>
                </a:lnTo>
                <a:lnTo>
                  <a:pt x="497" y="826"/>
                </a:lnTo>
                <a:lnTo>
                  <a:pt x="498" y="660"/>
                </a:lnTo>
                <a:lnTo>
                  <a:pt x="579" y="826"/>
                </a:lnTo>
                <a:lnTo>
                  <a:pt x="592" y="826"/>
                </a:lnTo>
                <a:lnTo>
                  <a:pt x="548" y="642"/>
                </a:lnTo>
                <a:lnTo>
                  <a:pt x="703" y="826"/>
                </a:lnTo>
                <a:lnTo>
                  <a:pt x="705" y="826"/>
                </a:lnTo>
                <a:lnTo>
                  <a:pt x="591" y="614"/>
                </a:lnTo>
                <a:lnTo>
                  <a:pt x="745" y="7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42280" y="522360"/>
            <a:ext cx="147600" cy="237960"/>
          </a:xfrm>
          <a:custGeom>
            <a:avLst/>
            <a:gdLst/>
            <a:ahLst/>
            <a:rect l="l" t="t" r="r" b="b"/>
            <a:pathLst>
              <a:path w="277" h="450">
                <a:moveTo>
                  <a:pt x="220" y="8"/>
                </a:moveTo>
                <a:lnTo>
                  <a:pt x="214" y="5"/>
                </a:lnTo>
                <a:lnTo>
                  <a:pt x="206" y="3"/>
                </a:lnTo>
                <a:lnTo>
                  <a:pt x="200" y="2"/>
                </a:lnTo>
                <a:lnTo>
                  <a:pt x="193" y="0"/>
                </a:lnTo>
                <a:lnTo>
                  <a:pt x="208" y="20"/>
                </a:lnTo>
                <a:lnTo>
                  <a:pt x="218" y="45"/>
                </a:lnTo>
                <a:lnTo>
                  <a:pt x="224" y="75"/>
                </a:lnTo>
                <a:lnTo>
                  <a:pt x="227" y="106"/>
                </a:lnTo>
                <a:lnTo>
                  <a:pt x="224" y="142"/>
                </a:lnTo>
                <a:lnTo>
                  <a:pt x="218" y="180"/>
                </a:lnTo>
                <a:lnTo>
                  <a:pt x="206" y="219"/>
                </a:lnTo>
                <a:lnTo>
                  <a:pt x="191" y="257"/>
                </a:lnTo>
                <a:lnTo>
                  <a:pt x="172" y="295"/>
                </a:lnTo>
                <a:lnTo>
                  <a:pt x="151" y="329"/>
                </a:lnTo>
                <a:lnTo>
                  <a:pt x="127" y="359"/>
                </a:lnTo>
                <a:lnTo>
                  <a:pt x="103" y="383"/>
                </a:lnTo>
                <a:lnTo>
                  <a:pt x="76" y="404"/>
                </a:lnTo>
                <a:lnTo>
                  <a:pt x="51" y="418"/>
                </a:lnTo>
                <a:lnTo>
                  <a:pt x="25" y="426"/>
                </a:lnTo>
                <a:lnTo>
                  <a:pt x="0" y="428"/>
                </a:lnTo>
                <a:lnTo>
                  <a:pt x="6" y="434"/>
                </a:lnTo>
                <a:lnTo>
                  <a:pt x="12" y="438"/>
                </a:lnTo>
                <a:lnTo>
                  <a:pt x="18" y="441"/>
                </a:lnTo>
                <a:lnTo>
                  <a:pt x="24" y="444"/>
                </a:lnTo>
                <a:lnTo>
                  <a:pt x="49" y="450"/>
                </a:lnTo>
                <a:lnTo>
                  <a:pt x="78" y="449"/>
                </a:lnTo>
                <a:lnTo>
                  <a:pt x="108" y="437"/>
                </a:lnTo>
                <a:lnTo>
                  <a:pt x="138" y="419"/>
                </a:lnTo>
                <a:lnTo>
                  <a:pt x="167" y="394"/>
                </a:lnTo>
                <a:lnTo>
                  <a:pt x="194" y="361"/>
                </a:lnTo>
                <a:lnTo>
                  <a:pt x="220" y="323"/>
                </a:lnTo>
                <a:lnTo>
                  <a:pt x="242" y="280"/>
                </a:lnTo>
                <a:lnTo>
                  <a:pt x="260" y="235"/>
                </a:lnTo>
                <a:lnTo>
                  <a:pt x="272" y="190"/>
                </a:lnTo>
                <a:lnTo>
                  <a:pt x="277" y="148"/>
                </a:lnTo>
                <a:lnTo>
                  <a:pt x="277" y="109"/>
                </a:lnTo>
                <a:lnTo>
                  <a:pt x="271" y="75"/>
                </a:lnTo>
                <a:lnTo>
                  <a:pt x="260" y="45"/>
                </a:lnTo>
                <a:lnTo>
                  <a:pt x="242" y="22"/>
                </a:lnTo>
                <a:lnTo>
                  <a:pt x="220" y="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548560" y="620640"/>
            <a:ext cx="112680" cy="208080"/>
          </a:xfrm>
          <a:custGeom>
            <a:avLst/>
            <a:gdLst/>
            <a:ahLst/>
            <a:rect l="l" t="t" r="r" b="b"/>
            <a:pathLst>
              <a:path w="213" h="395">
                <a:moveTo>
                  <a:pt x="169" y="9"/>
                </a:moveTo>
                <a:lnTo>
                  <a:pt x="163" y="6"/>
                </a:lnTo>
                <a:lnTo>
                  <a:pt x="157" y="3"/>
                </a:lnTo>
                <a:lnTo>
                  <a:pt x="152" y="1"/>
                </a:lnTo>
                <a:lnTo>
                  <a:pt x="146" y="0"/>
                </a:lnTo>
                <a:lnTo>
                  <a:pt x="157" y="19"/>
                </a:lnTo>
                <a:lnTo>
                  <a:pt x="165" y="41"/>
                </a:lnTo>
                <a:lnTo>
                  <a:pt x="168" y="68"/>
                </a:lnTo>
                <a:lnTo>
                  <a:pt x="168" y="98"/>
                </a:lnTo>
                <a:lnTo>
                  <a:pt x="163" y="130"/>
                </a:lnTo>
                <a:lnTo>
                  <a:pt x="155" y="163"/>
                </a:lnTo>
                <a:lnTo>
                  <a:pt x="143" y="196"/>
                </a:lnTo>
                <a:lnTo>
                  <a:pt x="126" y="230"/>
                </a:lnTo>
                <a:lnTo>
                  <a:pt x="113" y="254"/>
                </a:lnTo>
                <a:lnTo>
                  <a:pt x="98" y="275"/>
                </a:lnTo>
                <a:lnTo>
                  <a:pt x="83" y="294"/>
                </a:lnTo>
                <a:lnTo>
                  <a:pt x="68" y="312"/>
                </a:lnTo>
                <a:lnTo>
                  <a:pt x="51" y="327"/>
                </a:lnTo>
                <a:lnTo>
                  <a:pt x="35" y="341"/>
                </a:lnTo>
                <a:lnTo>
                  <a:pt x="17" y="351"/>
                </a:lnTo>
                <a:lnTo>
                  <a:pt x="0" y="360"/>
                </a:lnTo>
                <a:lnTo>
                  <a:pt x="14" y="395"/>
                </a:lnTo>
                <a:lnTo>
                  <a:pt x="33" y="389"/>
                </a:lnTo>
                <a:lnTo>
                  <a:pt x="54" y="380"/>
                </a:lnTo>
                <a:lnTo>
                  <a:pt x="75" y="366"/>
                </a:lnTo>
                <a:lnTo>
                  <a:pt x="96" y="350"/>
                </a:lnTo>
                <a:lnTo>
                  <a:pt x="116" y="330"/>
                </a:lnTo>
                <a:lnTo>
                  <a:pt x="135" y="308"/>
                </a:lnTo>
                <a:lnTo>
                  <a:pt x="153" y="282"/>
                </a:lnTo>
                <a:lnTo>
                  <a:pt x="169" y="254"/>
                </a:lnTo>
                <a:lnTo>
                  <a:pt x="189" y="215"/>
                </a:lnTo>
                <a:lnTo>
                  <a:pt x="202" y="176"/>
                </a:lnTo>
                <a:lnTo>
                  <a:pt x="210" y="139"/>
                </a:lnTo>
                <a:lnTo>
                  <a:pt x="213" y="104"/>
                </a:lnTo>
                <a:lnTo>
                  <a:pt x="210" y="73"/>
                </a:lnTo>
                <a:lnTo>
                  <a:pt x="202" y="46"/>
                </a:lnTo>
                <a:lnTo>
                  <a:pt x="189" y="24"/>
                </a:lnTo>
                <a:lnTo>
                  <a:pt x="169" y="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21520" y="762120"/>
            <a:ext cx="402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ooper BlkItHd BT"/>
              </a:rPr>
              <a:t>PROSPEC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289548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stawowe zadanie systemu to doradztwo w dziedzinie geologii, a w szczególności pomoc przy poszukiwaniu złóż minerałów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514600"/>
            <a:ext cx="8001000" cy="243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16160" y="380880"/>
            <a:ext cx="281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ooper BlkItHd BT"/>
              </a:rPr>
              <a:t>R1/XC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1752480"/>
            <a:ext cx="73152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danie postawione przed systemem to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gurowanie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uterów VAX.</a:t>
            </a:r>
            <a:r>
              <a:rPr b="0" lang="pl-PL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3429000"/>
            <a:ext cx="54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go czas konfiguracji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oło minuty</a:t>
            </a:r>
            <a:r>
              <a:rPr b="0" lang="en-US" sz="2400" spc="-1" strike="noStrike">
                <a:solidFill>
                  <a:srgbClr val="000000"/>
                </a:solidFill>
                <a:latin typeface="Cooper BlkItHd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34360" y="4267080"/>
            <a:ext cx="51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onfiguracja przez ludzi – 20 min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51055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rawność konfiguracji jest porównywalna ze specjalistami-ludźmi.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E02002_" descr=""/>
          <p:cNvPicPr/>
          <p:nvPr/>
        </p:nvPicPr>
        <p:blipFill>
          <a:blip r:embed="rId1"/>
          <a:stretch/>
        </p:blipFill>
        <p:spPr>
          <a:xfrm>
            <a:off x="7562880" y="0"/>
            <a:ext cx="1581120" cy="15825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5480" y="609480"/>
            <a:ext cx="17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ooper BlkItHd BT"/>
              </a:rPr>
              <a:t>INV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5360" y="2286000"/>
            <a:ext cx="42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ooper BlkItHd BT"/>
              </a:rPr>
              <a:t>LEADING ADVIS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3400" y="4724280"/>
            <a:ext cx="57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ooper BlkItHd BT"/>
              </a:rPr>
              <a:t>UNDERWRITING ADVIS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S00508_" descr=""/>
          <p:cNvPicPr/>
          <p:nvPr/>
        </p:nvPicPr>
        <p:blipFill>
          <a:blip r:embed="rId1"/>
          <a:stretch/>
        </p:blipFill>
        <p:spPr>
          <a:xfrm>
            <a:off x="7569360" y="0"/>
            <a:ext cx="1574640" cy="1662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04920" y="1371600"/>
            <a:ext cx="809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realizuje zadania związane z doradztwem w dziedzinie finansów, zwłaszcza w zakresie inwestycj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3048120"/>
            <a:ext cx="763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pełni rolę doradczą podczas podejmowania decyzji kredytowych poprzez analizowanie podań o pożyczki. Pozwala na oszacowanie ryzyka związanego z udzieleniem pożyczki.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5334120"/>
            <a:ext cx="786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danie systemu to ocena ryzyka na podstawie podań o ubezpieczenie, w celu określenia wysokości płatności z tego tytułu.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0" y="609480"/>
            <a:ext cx="815328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zy komputerowe Systemy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kspertowe mogą zatąpić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kspertów - ludzi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44" name="t_tapetki_zwierzeta_017" descr=""/>
          <p:cNvPicPr/>
          <p:nvPr/>
        </p:nvPicPr>
        <p:blipFill>
          <a:blip r:embed="rId1"/>
          <a:stretch/>
        </p:blipFill>
        <p:spPr>
          <a:xfrm>
            <a:off x="5715000" y="424800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05760" y="3276720"/>
            <a:ext cx="734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st to facet, który dużo wie i "ma nosa".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2280" y="1295280"/>
            <a:ext cx="23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roissantD"/>
              </a:rPr>
              <a:t>E</a:t>
            </a:r>
            <a:r>
              <a:rPr b="0" lang="pl-PL" sz="4800" spc="-1" strike="noStrike">
                <a:solidFill>
                  <a:srgbClr val="000000"/>
                </a:solidFill>
                <a:latin typeface="CroissantD"/>
                <a:ea typeface="Times New Roman"/>
              </a:rPr>
              <a:t>kspe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E01832_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1982880" cy="18111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09480" y="685800"/>
            <a:ext cx="243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CroissantD"/>
              </a:rPr>
              <a:t>E</a:t>
            </a:r>
            <a:r>
              <a:rPr b="0" lang="pl-PL" sz="5400" spc="-1" strike="noStrike">
                <a:solidFill>
                  <a:srgbClr val="000000"/>
                </a:solidFill>
                <a:latin typeface="CroissantD"/>
                <a:ea typeface="Times New Roman"/>
              </a:rPr>
              <a:t>ksper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286000"/>
            <a:ext cx="7940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łowiek, który nabył dogłębną wiedzę teoretyczną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nej dziedzinie poprzez naukę, wiedzę praktyczną - poprzez długoletnią pracę praktyczną (zastosowaniową) w danym wąskim wycinku wiedzy, jest obdarzony intuicją i ma dar stosowania tzw. skrótów myślowych pozwalających na "przeskoki" w czasie rozumowania i wybór najkrótszych dróg dojścia do celu, przy rozwiązywaniu danego problem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Kopia%20czykomp.small" descr=""/>
          <p:cNvPicPr/>
          <p:nvPr/>
        </p:nvPicPr>
        <p:blipFill>
          <a:blip r:embed="rId1"/>
          <a:stretch/>
        </p:blipFill>
        <p:spPr>
          <a:xfrm>
            <a:off x="7305840" y="0"/>
            <a:ext cx="183816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CroissantD"/>
              </a:rPr>
              <a:t>System ekspertowy</a:t>
            </a:r>
            <a:endParaRPr b="0" lang="en-US" sz="5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2209680"/>
            <a:ext cx="78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st złożonym (rozbudowanym) programem komputerowym, w którym jest umiejętnie zakodowana wiedza heurystyczna eksperta. Program taki składa się na ogół z kilku odrębnych, lecz powiązanych ze sobą bloków programowych (stąd określenie "system"), z których wydzielić można jako najważniejsze: interfejs użytkownika systemu, bazę wiedzy (tu jest zakodowana wiedza eksperta) i tzw. "maszyny wnioskującej", która wykorzystuje zakodowaną wiedzę i pozwala na dochodzenie do rozwiązania (celu) postawionego problem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BS00554_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1862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6720" y="434880"/>
            <a:ext cx="843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kich dziedzina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to stosowa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y ekspertowe?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819520"/>
            <a:ext cx="7407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tych dziedzinach, które są słabo sformalizowane, tzn. w których trudno jest przypisać teorie oparte na matematyce, lub inaczej, do których trudno jest zastosować ścisłe algorytmy działan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HM00363_" descr=""/>
          <p:cNvPicPr/>
          <p:nvPr/>
        </p:nvPicPr>
        <p:blipFill>
          <a:blip r:embed="rId1"/>
          <a:stretch/>
        </p:blipFill>
        <p:spPr>
          <a:xfrm>
            <a:off x="7491240" y="5199120"/>
            <a:ext cx="1652760" cy="16588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105520" y="50292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6560" y="76212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ycyn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828800"/>
            <a:ext cx="18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logi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6200" y="2971800"/>
            <a:ext cx="20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nictw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2880" y="3962520"/>
            <a:ext cx="16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w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2160" y="4952880"/>
            <a:ext cx="24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rządzani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30280" y="762120"/>
            <a:ext cx="26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ronautyk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6600" y="1905120"/>
            <a:ext cx="20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otyk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7680" y="2971800"/>
            <a:ext cx="172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7680" y="3962520"/>
            <a:ext cx="25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ktura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6840" y="838080"/>
            <a:ext cx="29620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ooper BlkItHd BT"/>
              </a:rPr>
              <a:t>DENDR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20968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0920" y="1981080"/>
            <a:ext cx="281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ruce Bucha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28195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dward Feigenba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3581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oshua Lederbe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HM00361_" descr=""/>
          <p:cNvPicPr/>
          <p:nvPr/>
        </p:nvPicPr>
        <p:blipFill>
          <a:blip r:embed="rId1"/>
          <a:stretch/>
        </p:blipFill>
        <p:spPr>
          <a:xfrm>
            <a:off x="6248520" y="304920"/>
            <a:ext cx="2166840" cy="1955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" y="4952880"/>
            <a:ext cx="68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Ustalanie struktury molekularnej nieznanych związków chemicz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62120" y="1371600"/>
            <a:ext cx="739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y algorytmiczn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ą na ogół znacznie szybsze i doprowadzają do optymalnego rozwiąza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403848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y ekspertow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wadzą najczęściej do rozwiązań nie koniecznie optymalnych, lecz akceptowalnych przez użytkownika system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43280" y="4648320"/>
            <a:ext cx="115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p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6720" y="1066680"/>
            <a:ext cx="23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ktronik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47440" y="1981080"/>
            <a:ext cx="255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yk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90800" y="2895480"/>
            <a:ext cx="231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k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29960" y="3733920"/>
            <a:ext cx="26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ownictw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3520" y="213372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onstruowani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– synteza, konfigurow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3886200"/>
            <a:ext cx="7414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owani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st raczej sztuką i trudno jest tu mówić o konkretnych algorytmach; można jedynie podać jakieś ogólne wytyczn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S01316_" descr=""/>
          <p:cNvPicPr/>
          <p:nvPr/>
        </p:nvPicPr>
        <p:blipFill>
          <a:blip r:embed="rId1"/>
          <a:stretch/>
        </p:blipFill>
        <p:spPr>
          <a:xfrm>
            <a:off x="7848720" y="304920"/>
            <a:ext cx="979200" cy="1774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38080" y="1905120"/>
            <a:ext cx="7102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systemie ekspertowym pochodzi od eksperta lub zespołu ekspertów (jest tzw. wiedza prywatna), a ponadto może być pozyskiwana z książek, katalogów, informacji fabrycznych, itp. (jako tzw. wiedza publiczn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E01561_" descr=""/>
          <p:cNvPicPr/>
          <p:nvPr/>
        </p:nvPicPr>
        <p:blipFill>
          <a:blip r:embed="rId1"/>
          <a:stretch/>
        </p:blipFill>
        <p:spPr>
          <a:xfrm>
            <a:off x="6324480" y="0"/>
            <a:ext cx="2443320" cy="1620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449720" y="190512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ed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7920" y="1219320"/>
            <a:ext cx="6340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ekspertowy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ędzie tym lepszy im lepsze jest grono ekspertów i im lepszy jest inżynier lub zespół inżynierów wiedzy tworzących program będący systemem ekspertowy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4267080"/>
            <a:ext cx="7483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stem ekspertowy nie może być lepszy od grona osób tworzących go!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!!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23360" y="663480"/>
            <a:ext cx="39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ooper BlkIt BT"/>
              </a:rPr>
              <a:t>„</a:t>
            </a:r>
            <a:r>
              <a:rPr b="0" lang="pl-PL" sz="3600" spc="-1" strike="noStrike">
                <a:solidFill>
                  <a:srgbClr val="000000"/>
                </a:solidFill>
                <a:latin typeface="Cooper BlkIt BT"/>
              </a:rPr>
              <a:t>czas rzeczywist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95480" y="4800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p.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4440" y="1752480"/>
            <a:ext cx="24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y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a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38320" y="251460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a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kietow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47440" y="3276720"/>
            <a:ext cx="322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technika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tnicz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1680" y="4038480"/>
            <a:ext cx="545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rol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ktorów atomowyc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47920" y="291960"/>
            <a:ext cx="572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ooper BlkIt BT"/>
                <a:ea typeface="Times New Roman"/>
              </a:rPr>
              <a:t>Alan Turing (1912-1954),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175248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Computing Machinery and Intelligence"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–              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0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3657600"/>
            <a:ext cx="7924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kazał bezpośrednio na możliwości takiego oprogramowania komputera, że będzie on (komputer) wykazywał cechy zachowania się zbliżone do zachowania się człowieka inteligentnego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BD06790_" descr=""/>
          <p:cNvPicPr/>
          <p:nvPr/>
        </p:nvPicPr>
        <p:blipFill>
          <a:blip r:embed="rId1"/>
          <a:stretch/>
        </p:blipFill>
        <p:spPr>
          <a:xfrm>
            <a:off x="7704000" y="0"/>
            <a:ext cx="1440000" cy="11905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78080" y="457200"/>
            <a:ext cx="32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ooper BlkItHd BT"/>
                <a:ea typeface="Times New Roman"/>
              </a:rPr>
              <a:t>"Test Turinga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2057400"/>
            <a:ext cx="2438280" cy="2666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523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 pokó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666880"/>
            <a:ext cx="198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złowiek A z termina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81480" y="838080"/>
            <a:ext cx="3200400" cy="5639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9920" y="3049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I pokó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10080" y="121932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dpowiednio oprogramowany komputer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44956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złowiek B z termina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666880" y="1752120"/>
            <a:ext cx="28958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90920" y="3733920"/>
            <a:ext cx="30477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209680" y="2209680"/>
            <a:ext cx="3276720" cy="1067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209680" y="3428640"/>
            <a:ext cx="3353040" cy="1066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2438280" y="2057400"/>
            <a:ext cx="400068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Koniec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85240" y="620640"/>
            <a:ext cx="213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ooper BlkIt BT"/>
              </a:rPr>
              <a:t>MYC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18288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972 r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74320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ogram pomagający lekarzom w doborze terapii przeciwbakteryjnej dla pacjentów z chorobami infekcyjnymi krw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E01023_" descr=""/>
          <p:cNvPicPr/>
          <p:nvPr/>
        </p:nvPicPr>
        <p:blipFill>
          <a:blip r:embed="rId1"/>
          <a:stretch/>
        </p:blipFill>
        <p:spPr>
          <a:xfrm>
            <a:off x="7086600" y="457200"/>
            <a:ext cx="1330200" cy="2089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14080" y="4952880"/>
            <a:ext cx="377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wiadomości o pacjen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952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=&gt; choro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4952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=&gt; lec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71600" y="60199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rzewo wiadomości o pacjencie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609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Zurich UBlkEx BT"/>
              </a:rPr>
              <a:t>PACJ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7524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ultura dająca pozytywny wy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362320"/>
            <a:ext cx="1079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ultur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43200" y="1752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Podejrzana choro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2362320"/>
            <a:ext cx="1079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175248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Poprzednie metody lecze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2362320"/>
            <a:ext cx="1079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lek nr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17524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Obecna metoda lecze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2362320"/>
            <a:ext cx="1079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676160" y="1066680"/>
            <a:ext cx="1904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352680" y="10666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106668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1066680"/>
            <a:ext cx="2514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320040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Zaatakowany organiz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3733920"/>
            <a:ext cx="12589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organizm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1160" y="472428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zabarwie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48006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wzr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5105520"/>
            <a:ext cx="1440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Gram. Pozy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5105520"/>
            <a:ext cx="1079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2819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761760" y="4191120"/>
            <a:ext cx="1522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4191120"/>
            <a:ext cx="1676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44956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THEN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przetwórz listę możliwych leczeń i znajdź najleps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37160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IF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organizm potrzebuje leczeni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286000"/>
            <a:ext cx="769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ND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przeprowadzone zostały rozważania dotyczące możliwości istnienia organów wymagających leczeni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44600" y="1154160"/>
            <a:ext cx="243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ooper BlkItHd BT"/>
              </a:rPr>
              <a:t>CANS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28195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iagnozowanie stanów chorobowych związanych z jaskrą i proponowanie terapii lecznicz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E01027_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865440" cy="1844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3520" y="46483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obserwacja choro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39160" y="464832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=&gt; 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objawy choro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15920" y="548640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=&gt; 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rodzaj choro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85160" y="54864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=&gt; 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eczen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10200" y="75420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ooper BlkItHd BT"/>
              </a:rPr>
              <a:t>P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7524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danie postawione przed systemem to diagnoza choroby pacjentów cierpiących na zaburzenia pracy ner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E01682_" descr="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2308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36280" y="3497400"/>
            <a:ext cx="503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ooper BlkItHd BT"/>
              </a:rPr>
              <a:t>INTERNIST/CADUCE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4648320"/>
            <a:ext cx="67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danie postawione przed systemem to diagnozowanie chorób bez dawania zaleceń co do sposobu leczenia.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9040" y="380880"/>
            <a:ext cx="163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ooper BlkItHd BT"/>
              </a:rPr>
              <a:t>RPF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2952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Rozpatrywanie podań o zasiłek i odpowiedź na n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E01616_" descr=""/>
          <p:cNvPicPr/>
          <p:nvPr/>
        </p:nvPicPr>
        <p:blipFill>
          <a:blip r:embed="rId1"/>
          <a:stretch/>
        </p:blipFill>
        <p:spPr>
          <a:xfrm>
            <a:off x="6781680" y="0"/>
            <a:ext cx="2078280" cy="1949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0880" y="2362320"/>
            <a:ext cx="8763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oby starające się o zasiłek, przesyłają do urzędów rejonowych wypeł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kiety, gdzie dane z nich są wprowadzane do komputera.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1143000" y="3276720"/>
            <a:ext cx="9829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śli osoba już raz ubiegała się o zasiłek, wówczas nie ma potrze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isywania jej danych ponownie, wystarczy je sprawdzić.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42670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kieta w postaci rekordu zostaje przesłana do głównego biura, gdzie 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ągu nocy komputer wejściowy przetwarza przysłane dane i przygotowu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do analizy w następnym dni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563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5334120"/>
            <a:ext cx="7239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tępnego dnia, komputer, wraz z nadzorującym go urzędnik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eprowadza analizę ankiety i drukuje odpowiedź, która j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syłan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47600" y="685800"/>
            <a:ext cx="27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ooper BlkItHd BT"/>
              </a:rPr>
              <a:t>SHEAR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67652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prawdzanie stanu technicznego i udzielanie rad dotyczących naprawy kombajnów węglow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5640" y="2819520"/>
            <a:ext cx="30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oper BlkItHd BT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ystąpienie awar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34290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Górnicy pracujący na dole informują urzędnika na górze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łopot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0920" y="434340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Urzędnik uruchamia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51055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adaje ewentualne pytania o stan urządz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57913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ekazuje instrukcje dotyczące napra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E01838_" descr=""/>
          <p:cNvPicPr/>
          <p:nvPr/>
        </p:nvPicPr>
        <p:blipFill>
          <a:blip r:embed="rId1"/>
          <a:stretch/>
        </p:blipFill>
        <p:spPr>
          <a:xfrm>
            <a:off x="6954840" y="0"/>
            <a:ext cx="2189160" cy="21002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21:06:24Z</dcterms:created>
  <dc:creator>Kasia Burniewicz</dc:creator>
  <dc:description/>
  <dc:language>en-US</dc:language>
  <cp:lastModifiedBy>Kasia Burniewicz</cp:lastModifiedBy>
  <dcterms:modified xsi:type="dcterms:W3CDTF">2003-11-14T10:28:05Z</dcterms:modified>
  <cp:revision>8</cp:revision>
  <dc:subject/>
  <dc:title>Prezentacja programu PowerPoint</dc:title>
</cp:coreProperties>
</file>